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7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613-B43C-45B4-8176-4E8562F0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AAE-A4C7-4948-8544-8791D7BD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6C6-7E8F-4CEA-8B35-CB6E785C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9C8-F0FC-4A29-9378-86CBDA65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A15C-7C11-413C-869F-D4F5B3F0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498D-D5DF-41BA-A4AF-5DD88B54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C28D-7D90-4FB6-8B4F-C3D0B2F1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7A8-4411-40E2-BEBB-C086C889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5F74-9409-495B-BD45-90AF3549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6B64-9BB2-4774-A49B-B81EADDD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5572-F731-4A9F-B8DE-A0F314A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C72-AF2B-40C9-A784-551FDCC0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B1ED-49CB-4144-9915-2ACFB8A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C3DE-28DF-403B-8168-02E6F2D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D8A8-1B1D-475D-8798-B22C8601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B862-7ACB-4D21-8F9E-D25C3275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F031-ECBF-454B-82B6-9E49F9E3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EE2-ED0D-461C-AC6C-AEFC0048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784-C5C7-4DCD-AC3C-02314554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B63-5BB7-47F0-850A-D24732B0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2E2-B4A3-4AD9-8FDE-6A0E14E7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997-6033-4D6A-8F1B-FE0D753D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E17-7DD9-462F-BBD3-F37D1AC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C4A-D225-4745-9A6C-9A897C4C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C5F7-99C2-4423-98A4-3FB4955E4C6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BAF2-FCFC-4EE3-B9BB-E14AC38AE5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" y="17524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dede"/>
                </a:solidFill>
                <a:latin typeface="Rockwell Extra Bold"/>
              </a:rPr>
              <a:t>Notes – The Scientific Method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523880" y="3352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ae5d"/>
                </a:solidFill>
                <a:latin typeface="Times New Roman"/>
              </a:rPr>
              <a:t>Unit: Introduction to Biolog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80880" y="53352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Times New Roman"/>
              </a:rPr>
              <a:t>1.01 Identify biological questions and problems that can be answered through scientific investiga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85ff"/>
                </a:solidFill>
                <a:latin typeface="Times New Roman"/>
              </a:rPr>
              <a:t>1.02 Design and conduct scientific investigations to answer biological question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57200" y="13716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buClr>
                <a:srgbClr val="33cccc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Qualitative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= data that is observe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with your sense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 behavior of the insects a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y are attracted to the flower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54680" y="762120"/>
            <a:ext cx="51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V.  Recor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Data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 a table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7200" y="36576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buClr>
                <a:srgbClr val="33cccc"/>
              </a:buClr>
              <a:buFont typeface="Times New Roman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Quantitative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= the number measured &amp; recorded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 number of insects that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are attracted OR how fast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insects are attracted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838080" y="7621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Analyze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data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– done through charts and graphs.  This helps make sense out of your result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4" descr="C:\Documents and Settings\sautrey.22-706-E-44929\My Documents\My Pictures\charts.jpg"/>
          <p:cNvPicPr/>
          <p:nvPr/>
        </p:nvPicPr>
        <p:blipFill>
          <a:blip r:embed="rId2"/>
          <a:stretch/>
        </p:blipFill>
        <p:spPr>
          <a:xfrm>
            <a:off x="3048120" y="289548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838080" y="106668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Form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conclusions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 states whethe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your hypothesis was correct o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correct.  Also suggests any error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at may have influenced you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result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609480" y="914400"/>
            <a:ext cx="8001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Publish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results.  Most reliab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publications are scientific journal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at give 1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hand results.  2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an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3</a:t>
            </a:r>
            <a:r>
              <a:rPr b="0" lang="en-US" sz="3600" spc="-1" strike="noStrike" baseline="30000">
                <a:solidFill>
                  <a:srgbClr val="33cccc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hand publications like newspaper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and columns are worse, because they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just summarize what a scientist did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7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5800" y="8380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X.  Hierarchy of Scientific Information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467720" y="2438280"/>
            <a:ext cx="59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ypothesis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ory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La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914400" y="9144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251"/>
              </a:spcBef>
              <a:buClr>
                <a:srgbClr val="33cc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heory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an explanation based on many observations during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repeated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experiments.  It can be changed or modified when new data is discovered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52480" y="4038480"/>
            <a:ext cx="6477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ory of Evolution,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ell The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990720" y="91440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.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aw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- a basic fact that describes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behavior of a natur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phenomenon – “Rule of Nature”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133720" y="388620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aw of Gravitation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aws of Mo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609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X. Measurements in Science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4479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33cc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whole world uses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etric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yste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- (except  the United States!)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20040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B.The Modern form of the metric system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is called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ternational Syste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of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Uni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- calle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SI Uni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, which a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based on units of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09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C. Six measurements scientists make: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Length, Mass, Weight, Volume,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Temperature and Dens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20040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D. Basic SI unit to measur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ength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eter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To measure great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distances, scientists use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Kilometer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: 1Km =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00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6094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E. Basic SI unit to measur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as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Gram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1Kg =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00g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51460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F.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Weight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a measure of the strength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of the pull of gravity on an object.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basic SI unit for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Weight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Newton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1Kg of mass weighs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N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295280" y="9144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Times New Roman"/>
              </a:rPr>
              <a:t>Essential Questions: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144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99cc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How do scientists design &amp;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conduct controlled experiments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914400" y="35053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99cc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What is the difference between a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hypothesis &amp; theory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914400" y="5029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99"/>
                </a:solidFill>
                <a:latin typeface="Times New Roman"/>
              </a:rPr>
              <a:t>3.   What are common measurements made in science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6094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G. Basic SI unit to measur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Volum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Liter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: 1 L =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1000mL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514600"/>
            <a:ext cx="792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H. Basic SI unit to measu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emperatur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Kelvin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  Scientists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instead us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elcius (</a:t>
            </a:r>
            <a:r>
              <a:rPr b="1" lang="en-US" sz="3600" spc="-1" strike="noStrike" u="sng" baseline="30000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: 0 =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freezing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point of water.  100 =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boiling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point of water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838080"/>
            <a:ext cx="7925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ensity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is the amount of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Mas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the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is in a certain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Volum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of material.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Density = m/V =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g/cm</a:t>
            </a:r>
            <a:r>
              <a:rPr b="1" lang="en-US" sz="3600" spc="-1" strike="noStrike" u="sng" baseline="30000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Background Brown.jpg"/>
          <p:cNvPicPr/>
          <p:nvPr/>
        </p:nvPicPr>
        <p:blipFill>
          <a:blip r:embed="rId1"/>
          <a:stretch/>
        </p:blipFill>
        <p:spPr>
          <a:xfrm>
            <a:off x="0" y="-10332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5335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8380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J. Common Prefixes: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14400" y="1752480"/>
          <a:ext cx="7391520" cy="404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391520" cy="40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1149480" y="99072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State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probl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990720" y="38098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observation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and perform backgroun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research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Picture 4" descr="question cute"/>
          <p:cNvPicPr/>
          <p:nvPr/>
        </p:nvPicPr>
        <p:blipFill>
          <a:blip r:embed="rId2"/>
          <a:stretch/>
        </p:blipFill>
        <p:spPr>
          <a:xfrm>
            <a:off x="6019920" y="1447920"/>
            <a:ext cx="2617560" cy="3962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1447920" y="17524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</a:t>
            </a:r>
            <a:r>
              <a:rPr b="0" lang="en-US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i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hy do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 very fragrant (smelly) flowers attract many insects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143000" y="27432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Flowers that are very fragrant will attract more insects than flowers that are not very fragran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66680" y="91440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II. Form a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ypothesis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 a testab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planation or an educated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gues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838080" y="914400"/>
            <a:ext cx="7772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251"/>
              </a:spcBef>
              <a:buClr>
                <a:srgbClr val="33cccc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Carry out an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experiment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procedure that tests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ypothesis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y collecting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formation under controlle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conditions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Picture 6" descr="bee angry"/>
          <p:cNvPicPr/>
          <p:nvPr/>
        </p:nvPicPr>
        <p:blipFill>
          <a:blip r:embed="rId2"/>
          <a:stretch/>
        </p:blipFill>
        <p:spPr>
          <a:xfrm>
            <a:off x="6781680" y="137160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bee chilling"/>
          <p:cNvPicPr/>
          <p:nvPr/>
        </p:nvPicPr>
        <p:blipFill>
          <a:blip r:embed="rId3"/>
          <a:stretch/>
        </p:blipFill>
        <p:spPr>
          <a:xfrm>
            <a:off x="4114800" y="48769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8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62120" y="838080"/>
            <a:ext cx="77724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imes New Roman"/>
              </a:rPr>
              <a:t>Requirements of every experiment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1066680" y="14479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251"/>
              </a:spcBef>
              <a:buClr>
                <a:srgbClr val="33cc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t must be given a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control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– a  group or sample that is used as a standard of comparison.  This is created usually by having a setup in which all conditions are kept the same, that you do not tes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1905120" y="5181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A flower with no scen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"/>
          <p:cNvSpPr/>
          <p:nvPr/>
        </p:nvSpPr>
        <p:spPr>
          <a:xfrm>
            <a:off x="609480" y="8380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.  It must only be testing on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variable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- any factor that can influence the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outcome. All oth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variable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should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b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constan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that are monitored an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kept stable to not effect the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results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of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e experimen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52480" y="426708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ame temperature, 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ame humidity, same wind,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ame flowers, same insect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066680" y="76212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C.  The factor that causes the chang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in the experiment is called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the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Independent Variable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060640" y="350532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How smelly the flower 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Picture 2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914400" y="457200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s – The Scientific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Background Brown.jpg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961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762120" y="7621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D.  The factor that changes in your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periment and that you mak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measurements of is called th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 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Dependent Variable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09680" y="4267080"/>
            <a:ext cx="5791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hether the Insects ar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attracted or no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Picture 4" descr="bee chilling"/>
          <p:cNvPicPr/>
          <p:nvPr/>
        </p:nvPicPr>
        <p:blipFill>
          <a:blip r:embed="rId2"/>
          <a:stretch/>
        </p:blipFill>
        <p:spPr>
          <a:xfrm>
            <a:off x="685800" y="4876920"/>
            <a:ext cx="1486080" cy="1485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53352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85ff"/>
                </a:solidFill>
                <a:latin typeface="Times New Roman"/>
              </a:rPr>
              <a:t>Obj. 1.01, Obj. 1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5:30:23Z</dcterms:created>
  <dc:creator>HCS</dc:creator>
  <dc:description/>
  <dc:language>en-US</dc:language>
  <cp:lastModifiedBy> </cp:lastModifiedBy>
  <dcterms:modified xsi:type="dcterms:W3CDTF">2009-08-22T21:08:59Z</dcterms:modified>
  <cp:revision>30</cp:revision>
  <dc:subject/>
  <dc:title>Notes – The Scientific Method</dc:title>
</cp:coreProperties>
</file>